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45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0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ED6-B469-4F75-8DFE-D48FB312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2A0-3895-420A-A8A4-4C1CED84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A7A-690E-4953-8DB3-1DA47840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1583-8935-45D5-952E-06FDC6EC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8FB6-6494-40C9-AFE8-3045851B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298-21F6-4E3C-BAEE-752EF4B8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78C-92C3-4E7D-A020-DD1A0560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86F-BC10-4989-8F73-5D98278D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FBF-DCB1-4B14-87FA-5C91B834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7C0-3090-4EC3-979A-E59B049D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557-45ED-4B2E-A238-AFC933A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5F5-6340-4A28-857A-4588304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473-C013-44D8-B94B-1CEA8CA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ACF6-C248-4BED-BD4F-B873EBA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5E5C-1B91-4978-8E71-C0FE5D6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D0E-62AB-4492-818D-BE6A703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C88-4D6A-465B-86FD-3884110D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B454-B4B9-431C-91F3-9813C02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202-330B-44A1-80F0-E2FCE785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4D55-3F04-4618-8EE5-FABA306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BCAC-1EDB-49E9-A700-16F86D7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16FB-E5B3-4D16-9274-A50C1D62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DBD-71C3-4406-9B18-6DB5C831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076D-6130-4C43-B2E1-0A6362A5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FB9-17BF-4DF7-B520-433ABD6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8C-1BDA-463F-95CD-BECDB9A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C6D-C4CB-4FB9-BC7A-D2AC8B8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0BF-E70B-4994-A329-B3FFED65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F5C-E7F0-41F8-8170-C53ADD2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273-2F66-468F-AA4D-8C381C7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2BF-6315-42A7-9F12-E3FCC32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7F58-D1C2-4A30-A4B2-351C295E19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C28-0196-44A6-8D22-2B9198DC68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6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cybercomm.nl/%7Eivo/photo_GEORGE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hool District 43 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30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inslow Centre, Coquit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“needs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ain the s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7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995360" y="41385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magesCAOEUU8Y.jpg"/>
          <p:cNvPicPr/>
          <p:nvPr/>
        </p:nvPicPr>
        <p:blipFill>
          <a:blip r:embed="rId7"/>
          <a:stretch/>
        </p:blipFill>
        <p:spPr>
          <a:xfrm>
            <a:off x="4619520" y="103176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631280" y="4836600"/>
            <a:ext cx="1215720" cy="121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imagesCA71CM7J.jpg"/>
          <p:cNvPicPr/>
          <p:nvPr/>
        </p:nvPicPr>
        <p:blipFill>
          <a:blip r:embed="rId13"/>
          <a:stretch/>
        </p:blipFill>
        <p:spPr>
          <a:xfrm>
            <a:off x="6012000" y="27511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magesCAW4N5TV.jpg"/>
          <p:cNvPicPr/>
          <p:nvPr/>
        </p:nvPicPr>
        <p:blipFill>
          <a:blip r:embed="rId14"/>
          <a:stretch/>
        </p:blipFill>
        <p:spPr>
          <a:xfrm>
            <a:off x="177840" y="400536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7"/>
          <a:stretch/>
        </p:blipFill>
        <p:spPr>
          <a:xfrm>
            <a:off x="2351160" y="73332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untitlewd.bmp"/>
          <p:cNvPicPr/>
          <p:nvPr/>
        </p:nvPicPr>
        <p:blipFill>
          <a:blip r:embed="rId18"/>
          <a:stretch/>
        </p:blipFill>
        <p:spPr>
          <a:xfrm rot="20406000">
            <a:off x="649440" y="1028520"/>
            <a:ext cx="190476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2436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240" y="3774960"/>
            <a:ext cx="29275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628560" y="907920"/>
            <a:ext cx="8045640" cy="5774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9960" y="1089000"/>
            <a:ext cx="8501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92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Impact"/>
              </a:rPr>
              <a:t>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78144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Google: Connect and Protect wi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348000" y="3540240"/>
            <a:ext cx="33116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7" descr=""/>
          <p:cNvPicPr/>
          <p:nvPr/>
        </p:nvPicPr>
        <p:blipFill>
          <a:blip r:embed="rId2"/>
          <a:stretch/>
        </p:blipFill>
        <p:spPr>
          <a:xfrm>
            <a:off x="3780000" y="4522680"/>
            <a:ext cx="164592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8" descr=""/>
          <p:cNvPicPr/>
          <p:nvPr/>
        </p:nvPicPr>
        <p:blipFill>
          <a:blip r:embed="rId3"/>
          <a:stretch/>
        </p:blipFill>
        <p:spPr>
          <a:xfrm>
            <a:off x="1189080" y="4943520"/>
            <a:ext cx="14936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9" descr=""/>
          <p:cNvPicPr/>
          <p:nvPr/>
        </p:nvPicPr>
        <p:blipFill>
          <a:blip r:embed="rId4"/>
          <a:stretch/>
        </p:blipFill>
        <p:spPr>
          <a:xfrm>
            <a:off x="6010200" y="422424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? (Facebook? MySpace? Twitter? Other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hatting On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 tonight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1327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ocated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imits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-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family expectation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hildren around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actical, proactive strateg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your children around healthy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The Bridge"/>
          <p:cNvPicPr/>
          <p:nvPr/>
        </p:nvPicPr>
        <p:blipFill>
          <a:blip r:embed="rId1"/>
          <a:stretch/>
        </p:blipFill>
        <p:spPr>
          <a:xfrm>
            <a:off x="2998800" y="3398760"/>
            <a:ext cx="3019320" cy="2228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80760" y="64404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7520" y="836280"/>
            <a:ext cx="37861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498600" y="3892680"/>
            <a:ext cx="1238040" cy="23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photo_GEO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2400" y="4592520"/>
            <a:ext cx="1629000" cy="127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jeannie001"/>
          <p:cNvPicPr/>
          <p:nvPr/>
        </p:nvPicPr>
        <p:blipFill>
          <a:blip r:embed="rId5"/>
          <a:stretch/>
        </p:blipFill>
        <p:spPr>
          <a:xfrm rot="20797800">
            <a:off x="4751280" y="159336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oodstock Festival Remembered"/>
          <p:cNvPicPr/>
          <p:nvPr/>
        </p:nvPicPr>
        <p:blipFill>
          <a:blip r:embed="rId7"/>
          <a:stretch/>
        </p:blipFill>
        <p:spPr>
          <a:xfrm rot="604200">
            <a:off x="6484680" y="3841920"/>
            <a:ext cx="1714320" cy="209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appy days.jpg"/>
          <p:cNvPicPr/>
          <p:nvPr/>
        </p:nvPicPr>
        <p:blipFill>
          <a:blip r:embed="rId8"/>
          <a:stretch/>
        </p:blipFill>
        <p:spPr>
          <a:xfrm>
            <a:off x="2655720" y="205740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gilligans-island-season-2.jpg"/>
          <p:cNvPicPr/>
          <p:nvPr/>
        </p:nvPicPr>
        <p:blipFill>
          <a:blip r:embed="rId9"/>
          <a:stretch/>
        </p:blipFill>
        <p:spPr>
          <a:xfrm rot="529200">
            <a:off x="7454880" y="51444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tari_2600.png"/>
          <p:cNvPicPr/>
          <p:nvPr/>
        </p:nvPicPr>
        <p:blipFill>
          <a:blip r:embed="rId11"/>
          <a:stretch/>
        </p:blipFill>
        <p:spPr>
          <a:xfrm>
            <a:off x="122400" y="555480"/>
            <a:ext cx="177480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2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3"/>
          <a:stretch/>
        </p:blipFill>
        <p:spPr>
          <a:xfrm>
            <a:off x="3854520" y="4889520"/>
            <a:ext cx="1616040" cy="16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761760"/>
            <a:ext cx="471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156360" y="5940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374920" cy="341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4873680" y="4224240"/>
            <a:ext cx="2038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5-01T01:44:02Z</dcterms:modified>
  <cp:revision>96</cp:revision>
  <dc:subject/>
  <dc:title>Technology, kids and you</dc:title>
</cp:coreProperties>
</file>